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F55-0930-4705-98A5-199024E4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AA2-1F24-4E16-8D24-49C341BF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D2DBC-2B23-4622-9EFB-98ED145D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965A4-0BE2-4C53-8DD4-415904B0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B6E99-97FD-4DE5-BAF4-53FB368D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58055-181C-43A2-9C4C-96A3B2A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D0C0C-789D-462E-B4FF-1BFF6395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A5E89-9A63-4A32-83C6-89B718D9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883D8-78F6-4458-9485-47BD328C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7A734-6ACC-4C0A-BB4D-0B04FDE6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3AA4C-289B-4C0F-BD67-22370838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5B181-1477-4834-A71F-DEF50773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1F1-D7CE-4EF0-B099-D8CBA15E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EE74C-65C6-4AE6-83B7-F42E3DB7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E2CD5-7C2E-4971-9DD4-A997A9A5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B81BE-8D44-417B-8D2A-FCAE5EED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B6B65-3A97-476E-B1C0-D52E4068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2302A-BEDF-4C1E-A1C3-1097BB05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8A536-2A9C-442A-AA87-4636339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BEF43-8F0B-45A8-9160-B9BDDBE9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87EB9-8B41-41A5-BCBE-33888374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94098-F5B3-41DC-A793-68783041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7412D-DF5A-4F4A-B0A7-BD4B48FA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1C4-E9E9-42D3-BD89-E593EFC3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75491-9FF4-431A-B6AC-DAE1CC9B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9030C-0976-473E-90E0-D6DBEBD0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95180-5306-4286-9CD4-75AFCDCF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0DAD7-4860-4440-9211-39F3C5CD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B565B-BA79-4165-B3F7-A01EBBBD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F81F0-07D0-451D-B487-0F80567C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FF549-CF10-4EA6-9A2A-C8A16861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B56BD-D43D-473D-B4C9-3B46C05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1962A-2FD5-47A0-91F8-BF5167E2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80279-5058-456C-B54E-EFDED07C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693A-EB57-40A4-8317-A92CAC32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AB2F2-6E72-4A24-8C84-D60D8ECD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0F69B-6841-4ED7-99B8-4115CA23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6E2EB-8C02-425E-AACA-A463B7DD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55BFC-19E0-4E1E-A7D9-59074AA2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52C25-4E90-470D-B4F3-00A7F707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FA044-1B76-40BE-AB96-A17C2137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E4EBA-F9C8-43CD-949B-3F923BB2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EE0DA-F4DF-45BF-A230-FAEF1955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0AE05-1645-44B8-B98E-BCD14263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98012-20D0-444B-8C5E-F05A4A67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B98E-A603-441D-8EBC-6E002E7E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FF949-EE43-42F9-8BDB-5342470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7577B-1B05-42DA-B923-39789B2F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49E06-14FC-40F2-AA6F-C787A36C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C3ED6-6FC1-4305-83F5-F126543B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EF4AA-5EB3-457B-B273-EED45AED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8A2B4-4EDB-4CEE-B2A2-2ED15CE5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3373B-8F13-41CE-AA7B-7D6B2508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8B971-4AB0-4261-9430-367B5D0D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A03EB-0D0D-4372-9E97-C3B2D6C8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B7F2D-7A4A-4A06-A0BB-535B4284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667A-DA24-4C43-9A93-68B099C6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5B240-F776-46CB-B9F5-4E9C8DB4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2B7F5-8B2D-4EF6-817E-22582BDE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944C3-A75B-4248-8E58-CE7E0F7D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2DB3AD-964B-4140-931D-A31B4B3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99B4D-3B5B-4839-9A9C-49A1F602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2BCC1-7D0C-4B92-9BFE-86A2AF78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A35D9-B2BB-468A-A52A-39487754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30BC-4B0B-49E8-9BF9-631BE176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F7E2-9A89-4EA1-B339-7544D13F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2FFE-530C-4CEF-A3D5-672D70AD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E54D-4164-4BD1-882E-CA1E67BD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2EC-C464-483C-AF71-9A9CF40D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E08-2896-49DC-ADEE-B177B1A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44FF-024F-4CCC-8BC8-DDF4549C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B69C-3250-4F2B-80C4-42CEECB2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4DCF-A2B1-415F-8D8C-EE769D4F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B2B8-C158-447B-8DEE-C7C3DF0F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074C-4C0F-4F89-BE94-EC6C3150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F8014-BD55-4D51-9422-A9AD7B1F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F5CA-CB20-476F-B37F-8ECCB992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AF966-19A6-4F0A-B440-7ED0CE3B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E5DC-62D9-493A-9864-0D5046AA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CF3-19CD-44E6-9411-A2CCF7FD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7294-1567-4859-AA77-5AC6D378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CA26-DC56-4FAD-AD9F-5D649650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5CDE-EB16-450A-855A-47D88853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79F9-1953-45B9-A125-C5A9692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8F46-DCEB-4A82-B311-8B440F4B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BA61C-3E5B-492D-B18A-FFD46CC0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61F3-27DA-4AFC-B3FC-ACD1A820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D7935-C105-4246-ADBB-B107F31D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8CE4-4A32-4A4D-98DC-96FDE48D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A397-9502-4CDA-8D3F-1D7F3AA9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57F-ACE6-4A5C-991D-99244F3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8BD9-0057-46E9-A510-E162F723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7F67A-1948-426A-BFAF-B81BD1AB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A3FA1-9796-4282-8861-AA2F0591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BB730-0938-4B55-AC96-CF1E980A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A078-B092-43A5-AB09-F53B707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7137-30DA-4A22-B440-4DFF8A6C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3E603-B795-4B4B-AB77-75FCDBA2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275E9-908F-4893-A741-E19350D2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BD21-2EEB-4B85-816F-91DDA803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9C613-CF1E-4514-825F-AC3EE884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9D9-A8FC-40E6-99BD-A37A23F5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B0F6-7669-4D19-83FB-966B02EE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7F38-FCA5-4C86-A699-40B991DD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46DA-84E2-4983-B96F-3DDA968D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EE76B-E704-48C1-9ABD-8C6D070E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C4DEF-CEE8-4961-B7CC-5AE8E566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A2F82-80E1-4572-9DB2-60CC720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D7FE4-DC21-44CA-B26B-C93EB143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3A04-6A00-429E-B6DD-1EA5B732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3CC2-FF96-406D-9474-C1AF7365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CBCC7-B4E3-47A6-8DF8-98D6BA49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058-26C0-4B61-9693-517F21E1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25C2-FF71-4DAE-AAFA-74857B20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349B7-10B2-4696-87E2-7F961590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D7F7E-AE64-48C7-8002-207067B6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CD85E-1EE4-46DF-8C60-9EB14F6C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FC15-3F1B-4650-B7C0-FB059120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6F05-617D-4D85-9B4C-FC3C7236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447E7-CD8D-4DB2-AC59-56B3AB2A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014C3-ECD5-428E-958D-C26832D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0851A-F00A-4AD5-8CD4-74C7E351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1F57C-0D6A-4FFE-8EFD-7F7A073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4DC-1293-44C3-9516-22795D5A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55CED-F1ED-4B63-BF28-59A9FE62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52A31-BE3F-466C-864F-116DFA7F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8AD7B-CCEA-494F-A908-034CA228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9BC96-6195-4170-834C-FAA7ADE8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C4536-19CD-4F4D-9FB9-2704A7DE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713C0-D17B-40FA-92AA-12947079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6FC10-74E5-454D-8F5D-4FBC0962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7B6AA-1330-4BE1-A126-559945F2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3595-A950-4B5E-8BDD-CA0BE7FD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C4113-A42B-4343-B12F-5F092236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D68-81ED-4576-A804-72E1EC93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0879-8D37-4B97-8C5B-CDCB82D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DB9E6-494A-49B2-937D-D4FBF00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31619-1A33-4631-AA97-65557C06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AE12B-FC20-4780-BC4F-9C0BF0E7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A7C02-18B6-4F5E-AA10-2A1BFA7F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695FD-E4FB-441A-BE6E-1D5946B9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D6757-12B7-428E-9EE6-037D1D6C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4C5A1-6E17-4366-ACFE-2D3274E1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6161A-5393-4FE7-8A3B-677D559F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709A4-9894-4E9B-A17A-678693C6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3CE-E1FE-466A-AD86-B1D3BA7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9BEAB-FB7C-4715-A852-31DC14B6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4DB95-3D0B-4EA4-8B31-CBDA444D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10B13-31D2-4117-AC53-E9EAEEB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EF4B7-B274-4160-8975-123D43D1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97771-55FC-451C-9FFD-3B8FBAA9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620BF-E290-4D61-A153-D08917ED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559B9-42E9-4540-8930-876EAC8F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EC466-A2BA-4DB2-B730-C9E8437D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47357-9EA0-416E-AB25-33ED3878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8F626-B17E-4E4A-B030-E18A1909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FCF92-6AE0-4D62-8132-3E24BE15D7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552FA6-B93E-404F-B9CE-B97E331C7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36915-6A25-4DD7-8065-C9BA3E9E0B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D20BE-EC29-4D98-9F56-E9FBE2D0D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05815-BBC1-4D90-9E79-75BB251A46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54D58-557C-41CE-A259-E838B5716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CD414-FF41-4F4D-B7D4-69898002CE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2E6A4A-9014-492E-A0A8-C1E546AD9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1085F-CFEB-4B00-9C6B-F6A59CE269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29A65-8520-415A-897E-FAC678AA2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120A2-B052-45D0-BE86-3041468894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C2AC9-EA76-4370-9194-E2A3BBCDC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56C39-A634-4CEA-881A-3783888C9B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F2EADD-D36E-4F8E-B1AF-8ED320E9D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165E5-A490-4179-883C-3B5D2BBCA5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42C3A-A362-416F-A82E-DEB6FDF55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15914-6406-4019-8E00-45B8213ED3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EAC46-DFEB-4B8C-9AD1-5C32DF048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DE6B0-9D27-497B-80B5-466E53BF61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CB634-AD24-42BC-B6E8-42448C810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0D6AB-30EE-46BC-8809-AD837F51E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E0C3B-0188-4277-9604-FB78B8351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A7723-AD70-4CCE-B5EC-06FF80BCAD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448B4-470B-4A78-A4F3-32884F052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42B3D-39AF-4BCA-9501-66FDFDBDF8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A3190-8ACB-47B6-92A8-A9F03E4A4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avelyonok@hse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МЕЖДУНАРОДНАЯ КОНФЕРЕНЦИЯ по ИСТОРИИ УПРАВЛЕНЧЕСКОЙ МЫСЛИ И БИЗНЕСА , Москва, 21.09.2018 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ubtitle 2"/>
          <p:cNvSpPr/>
          <p:nvPr/>
        </p:nvSpPr>
        <p:spPr>
          <a:xfrm>
            <a:off x="614520" y="2954160"/>
            <a:ext cx="79149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 Semibold"/>
              </a:rPr>
              <a:t>Какой менеджмент нам нуже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ubtitle 2"/>
          <p:cNvSpPr/>
          <p:nvPr/>
        </p:nvSpPr>
        <p:spPr>
          <a:xfrm>
            <a:off x="766800" y="4587840"/>
            <a:ext cx="79153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к.э.н., доцент Института образования НИУ ВШ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Е.А.Савелён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hse.ru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ubtitle 2"/>
          <p:cNvSpPr/>
          <p:nvPr/>
        </p:nvSpPr>
        <p:spPr>
          <a:xfrm>
            <a:off x="614520" y="2727360"/>
            <a:ext cx="8035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СПАСИБ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м.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903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) 134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-8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Myriad Pro"/>
                <a:hlinkClick r:id="rId2"/>
              </a:rPr>
              <a:t>esavelyonok@hse.ru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Subtitle 2"/>
          <p:cNvGrpSpPr/>
          <p:nvPr/>
        </p:nvGrpSpPr>
        <p:grpSpPr>
          <a:xfrm>
            <a:off x="255600" y="2133720"/>
            <a:ext cx="8791560" cy="2614320"/>
            <a:chOff x="255600" y="2133720"/>
            <a:chExt cx="8791560" cy="2614320"/>
          </a:xfrm>
        </p:grpSpPr>
        <p:pic>
          <p:nvPicPr>
            <p:cNvPr id="53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90120" cy="26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255600" y="2133720"/>
              <a:ext cx="8791560" cy="26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Не тот мне знаток в корабле, кто перечел и перемерял каюты и веревки, но кто познал силу и природу корабля: тот, разумея компас, разумеет путь его и все околич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ригорий Сковор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Россией управлять совсем не сложно, но совершенно бесполезно [бессмысленно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лександр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I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9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У каждого из нас есть только одно истинное призвание – найти путь к самому себ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ерман Гесс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55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Я 30 лет изучаю менеджмент, а ты меня тут учишь жизни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(фраза из жизни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61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Человек, рожденный от жены, краткодневен и пресыщен печа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нига И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6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В основе свободы и автономности индивида лежит … простое эмпирическое осознание, непередаваемое ощущение очень личной взаимосвязи человека и внеземной силы, которая действует как противовес «миру» и его «разуму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.Г. Юн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7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Любое общее образование, лишенное ориентации на предельные смысловые проблемы, на высшие ценности и смысл бытия — ущерб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.А.Пин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Subtitle 2"/>
          <p:cNvGrpSpPr/>
          <p:nvPr/>
        </p:nvGrpSpPr>
        <p:grpSpPr>
          <a:xfrm>
            <a:off x="628560" y="2712960"/>
            <a:ext cx="8058240" cy="2054160"/>
            <a:chOff x="628560" y="2712960"/>
            <a:chExt cx="8058240" cy="2054160"/>
          </a:xfrm>
        </p:grpSpPr>
        <p:pic>
          <p:nvPicPr>
            <p:cNvPr id="579" name="Subtitle 2" descr=""/>
            <p:cNvPicPr/>
            <p:nvPr/>
          </p:nvPicPr>
          <p:blipFill>
            <a:blip r:embed="rId2"/>
            <a:stretch/>
          </p:blipFill>
          <p:spPr>
            <a:xfrm>
              <a:off x="631440" y="2712960"/>
              <a:ext cx="805500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628560" y="2714760"/>
              <a:ext cx="8058240" cy="20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ТАК КТО ЖЕ МЫ ТАКИЕ, МЕНЕДЖЕРЫ ???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45:29Z</dcterms:created>
  <dc:creator>vkremlev</dc:creator>
  <dc:description/>
  <dc:language>en-US</dc:language>
  <cp:lastModifiedBy>marshev vadim ivanovich</cp:lastModifiedBy>
  <cp:lastPrinted>2016-10-31T15:52:17Z</cp:lastPrinted>
  <dcterms:modified xsi:type="dcterms:W3CDTF">2018-09-21T06:44:53Z</dcterms:modified>
  <cp:revision>455</cp:revision>
  <dc:subject/>
  <dc:title>Slide 1</dc:title>
</cp:coreProperties>
</file>